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CCE0F-57CD-4444-AB7E-33A85E96F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52368-F0B2-41F5-86E9-3FDB1A22E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77F66-EE8C-4823-8804-5A18FF2E0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011CD-F279-4EDE-9FD5-DDA8A62C8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1C908-C83F-44AB-942C-93B60EFFA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8253A-300F-48AF-94A2-56C0CBD13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876E8-0B87-4D55-811F-2A6800366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26412-E841-4837-8707-B49DC978E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59F96-E90A-4A5D-8634-1D7DB0DB6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2348D-7EB1-4F4C-87EC-8AB4852D5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0B0DB-9C07-4370-97A0-0E358F08E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488B1-E1BC-4538-B810-F2DA3BFB2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3368-E0E3-4848-8055-1DB616050806}"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Online High School?</a:t>
            </a:r>
            <a:endParaRPr b="0" lang="en-US" sz="4400" spc="-1" strike="noStrike">
              <a:solidFill>
                <a:srgbClr val="000000"/>
              </a:solidFill>
              <a:latin typeface="Arial"/>
            </a:endParaRPr>
          </a:p>
        </p:txBody>
      </p:sp>
      <p:sp>
        <p:nvSpPr>
          <p:cNvPr id="42" name=""/>
          <p:cNvSpPr txBox="1"/>
          <p:nvPr/>
        </p:nvSpPr>
        <p:spPr>
          <a:xfrm>
            <a:off x="228600" y="1218960"/>
            <a:ext cx="8610480" cy="56386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or private schools that allow high school students to work with their curriculum and teachers using the Internet rather than in a traditional classroom setting.</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ption for students who need to stay home for health reasons, desire to work at their own pace, find themselves unable to concentrate on their work in the traditional setting, or need to schedule their learning around a care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15192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Online High School Education</a:t>
            </a:r>
            <a:endParaRPr b="0" lang="en-US" sz="4400" spc="-1" strike="noStrike">
              <a:solidFill>
                <a:srgbClr val="000000"/>
              </a:solidFill>
              <a:latin typeface="Arial"/>
            </a:endParaRPr>
          </a:p>
        </p:txBody>
      </p:sp>
      <p:sp>
        <p:nvSpPr>
          <p:cNvPr id="44" name=""/>
          <p:cNvSpPr txBox="1"/>
          <p:nvPr/>
        </p:nvSpPr>
        <p:spPr>
          <a:xfrm>
            <a:off x="685800" y="1981080"/>
            <a:ext cx="7772400" cy="4648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Online High School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ublic</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rivat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University Affiliat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Public Online HS in OK</a:t>
            </a:r>
            <a:endParaRPr b="0" lang="en-US" sz="4400" spc="-1" strike="noStrike">
              <a:solidFill>
                <a:srgbClr val="000000"/>
              </a:solidFill>
              <a:latin typeface="Arial"/>
            </a:endParaRPr>
          </a:p>
        </p:txBody>
      </p:sp>
      <p:sp>
        <p:nvSpPr>
          <p:cNvPr id="46" name=""/>
          <p:cNvSpPr txBox="1"/>
          <p:nvPr/>
        </p:nvSpPr>
        <p:spPr>
          <a:xfrm>
            <a:off x="152280" y="1371240"/>
            <a:ext cx="876312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 OK has 900 students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s continue to increase based on how many students the 6 partnering schools will tak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for full time stud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Time = 6 courses per semes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Time Students pay $400 per cou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provide curriculum and other materials at no c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fer computer leases and pay for student internet connection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228600"/>
            <a:ext cx="88394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Private Online HS:</a:t>
            </a:r>
            <a:endParaRPr b="0" lang="en-US" sz="4400" spc="-1" strike="noStrike">
              <a:solidFill>
                <a:srgbClr val="000000"/>
              </a:solidFill>
              <a:latin typeface="Arial"/>
            </a:endParaRPr>
          </a:p>
        </p:txBody>
      </p:sp>
      <p:sp>
        <p:nvSpPr>
          <p:cNvPr id="48" name=""/>
          <p:cNvSpPr txBox="1"/>
          <p:nvPr/>
        </p:nvSpPr>
        <p:spPr>
          <a:xfrm>
            <a:off x="228600" y="1599840"/>
            <a:ext cx="86104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rivate Online in 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d to be expensive (possible to find non-profit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re as much as $16,000 for a four-year diploma progra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to find low-cost alternatives like Penn Foster- complete diploma for around $1,29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1519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st of University Affiliated Online HS:</a:t>
            </a:r>
            <a:endParaRPr b="0" lang="en-US" sz="3600" spc="-1" strike="noStrike">
              <a:solidFill>
                <a:srgbClr val="000000"/>
              </a:solidFill>
              <a:latin typeface="Arial"/>
            </a:endParaRPr>
          </a:p>
        </p:txBody>
      </p:sp>
      <p:sp>
        <p:nvSpPr>
          <p:cNvPr id="50" name=""/>
          <p:cNvSpPr txBox="1"/>
          <p:nvPr/>
        </p:nvSpPr>
        <p:spPr>
          <a:xfrm>
            <a:off x="228600" y="1218960"/>
            <a:ext cx="8610480" cy="51814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d to be expensive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ford’s gifted-student program costs  $13,000 per year, courses run from $495 to $740 each, plus $50 for materials and shipping per cours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to find schools that charge less than $150 per credi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versity of Oklahoma High School costs $1,725 per year ($180 per course) in addition to several f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 Program Option</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 Program will Pay for part time stud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spend ½ day in tech center, and tech center pays for supplemental academic cour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4:35:21Z</dcterms:created>
  <dc:creator>Erica Burns</dc:creator>
  <dc:description/>
  <dc:language>en-US</dc:language>
  <cp:lastModifiedBy>default</cp:lastModifiedBy>
  <dcterms:modified xsi:type="dcterms:W3CDTF">2008-10-15T18:06:50Z</dcterms:modified>
  <cp:revision>64</cp:revision>
  <dc:subject/>
  <dc:title>Online High Schools &amp; the Future of High School Diplomas</dc:title>
</cp:coreProperties>
</file>